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1D34-18D5-4E17-AE14-3E5D62DA62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0D9E-86CC-466A-B8AD-E7FD428DAB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4526-6AB3-4512-AA9D-B82F44C47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5D90-4419-4700-9FEB-E5C36D5C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05B1-A8E7-46DB-9D5B-0E2E38BBB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1382-01CC-4354-91D7-5A30322D6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D15F-B800-4497-A63A-F76F7ABB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0DA8-51B8-461F-889A-5342CB3C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C0CF-B2DA-4747-A8B4-B49C1F64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1E63-76FF-474F-A0A7-39FB99AC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E205-194F-4691-9564-5CF6DC6F3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FA9C-C28E-48AB-8599-8C30DC8FD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1F02-0F9C-457A-899D-369ACEB24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F151-9BC8-4DF5-8679-6BF7EEF6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9FECE-7A46-429A-B1F0-9483E3236D0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грисане 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мске студије фармације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линичка фармациј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II –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01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684360" y="2852640"/>
            <a:ext cx="777240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Збрињавање пацијената са схизофрениј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1371600" y="548640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dr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ушан Ђур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Антиконвулзиви као стабилизатори расположењ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2356920"/>
            <a:ext cx="822960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Валпроа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арбамазепин и окскарбамазеп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Ламотригин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Габапент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Топирама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Парцијални агонисти допаминергичких рецепто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786040"/>
            <a:ext cx="822960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рипипразо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мисулприд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28440" y="380880"/>
            <a:ext cx="6010200" cy="77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СПЕКТАР БИПОЛАРНЕ СИМПТОМАТОЛОГИЈ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2590920" cy="26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Roman YU"/>
              </a:rPr>
              <a:t>МАН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Roman YU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Еуфор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Идеја величин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Импулсивно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Пораст либид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Неми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1f497d"/>
                </a:solidFill>
                <a:latin typeface="Symbol"/>
                <a:ea typeface="Symbol"/>
              </a:rPr>
              <a:t></a:t>
            </a: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потреба за спавање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324120" y="1523520"/>
            <a:ext cx="2514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Garamond"/>
              </a:rPr>
              <a:t>ДЕПРЕС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Депрес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1f497d"/>
              </a:buClr>
              <a:buFont typeface="Arial"/>
              <a:buChar char="•"/>
              <a:tabLst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Анксиозно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1f497d"/>
              </a:buClr>
              <a:buFont typeface="Arial"/>
              <a:buChar char="•"/>
              <a:tabLst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Иритабилно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1f497d"/>
              </a:buClr>
              <a:buFont typeface="Arial"/>
              <a:buChar char="•"/>
              <a:tabLst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Хостилнос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1f497d"/>
              </a:buClr>
              <a:buFont typeface="Arial"/>
              <a:buChar char="•"/>
              <a:tabLst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Виолентнос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1f497d"/>
              </a:buClr>
              <a:buFont typeface="Arial"/>
              <a:buChar char="•"/>
              <a:tabLst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1f497d"/>
                </a:solidFill>
                <a:latin typeface="Garamond"/>
              </a:rPr>
              <a:t>Суици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2514600" y="2438280"/>
            <a:ext cx="1143000" cy="457200"/>
          </a:xfrm>
          <a:prstGeom prst="line">
            <a:avLst/>
          </a:prstGeom>
          <a:ln w="507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"/>
          <p:cNvSpPr/>
          <p:nvPr/>
        </p:nvSpPr>
        <p:spPr>
          <a:xfrm flipH="1">
            <a:off x="5486400" y="2438280"/>
            <a:ext cx="838080" cy="533520"/>
          </a:xfrm>
          <a:prstGeom prst="line">
            <a:avLst/>
          </a:prstGeom>
          <a:ln w="507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7"/>
          <p:cNvSpPr/>
          <p:nvPr/>
        </p:nvSpPr>
        <p:spPr>
          <a:xfrm flipV="1">
            <a:off x="3048120" y="4266720"/>
            <a:ext cx="1066680" cy="838440"/>
          </a:xfrm>
          <a:prstGeom prst="line">
            <a:avLst/>
          </a:prstGeom>
          <a:ln w="507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8"/>
          <p:cNvSpPr/>
          <p:nvPr/>
        </p:nvSpPr>
        <p:spPr>
          <a:xfrm flipH="1" flipV="1">
            <a:off x="5257800" y="4419360"/>
            <a:ext cx="990720" cy="609480"/>
          </a:xfrm>
          <a:prstGeom prst="line">
            <a:avLst/>
          </a:prstGeom>
          <a:ln w="50760">
            <a:solidFill>
              <a:srgbClr val="33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3505320" y="1447920"/>
            <a:ext cx="2209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Roman YU"/>
              </a:rPr>
              <a:t>Манична, депресивна или мешов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295280" y="4721760"/>
            <a:ext cx="3124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Garamond"/>
              </a:rPr>
              <a:t>ПСИХ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Сумануте иде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Халуцин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Сензорна хиперактивнос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6324480" y="3654720"/>
            <a:ext cx="26672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Garamond"/>
              </a:rPr>
              <a:t>КОГНИ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Бекство мис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Дистрактибилно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Слаб ув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Дезорганиз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Конфу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WordArt 12"/>
          <p:cNvSpPr txBox="1"/>
          <p:nvPr/>
        </p:nvSpPr>
        <p:spPr>
          <a:xfrm>
            <a:off x="3581280" y="3257640"/>
            <a:ext cx="221004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66ff33"/>
                    </a:gs>
                    <a:gs pos="100000">
                      <a:srgbClr val="00cc00"/>
                    </a:gs>
                  </a:gsLst>
                  <a:lin ang="5400000"/>
                </a:gradFill>
                <a:latin typeface="Times New Roman"/>
              </a:rPr>
              <a:t>Епизода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66ff33"/>
                  </a:gs>
                  <a:gs pos="100000">
                    <a:srgbClr val="00cc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0920" y="480960"/>
            <a:ext cx="709164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нтидепресиви нове генерације - захтев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47920" y="2286000"/>
            <a:ext cx="7518240" cy="41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Различите хемијске, фармаколошке и биохемијске особине од трициклика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Неутралност у односу на инхибицију моноаминооксидазе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 (MAO)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Одсуство симпатомиметског ефекта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Одсуство анти-холинергичких дејстава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Неутралност у односу на кардио-васкуларни систем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0920" y="480960"/>
            <a:ext cx="7015320" cy="58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Антидепресиви нове генерације - подел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81080" y="1371600"/>
            <a:ext cx="6972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елективни инхибитори поновног преузимањ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орадреналина и допамина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Latn-CS" sz="1800" spc="-1" strike="noStrike">
                <a:solidFill>
                  <a:srgbClr val="000000"/>
                </a:solidFill>
                <a:latin typeface="Calibri"/>
              </a:rPr>
              <a:t>NDR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орадреналина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Latn-CS" sz="1800" spc="-1" strike="noStrike">
                <a:solidFill>
                  <a:srgbClr val="000000"/>
                </a:solidFill>
                <a:latin typeface="Calibri"/>
              </a:rPr>
              <a:t>(NARI (NRI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еротонина и норадреналина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Latn-CS" sz="1800" spc="-1" strike="noStrike">
                <a:solidFill>
                  <a:srgbClr val="000000"/>
                </a:solidFill>
                <a:latin typeface="Calibri"/>
              </a:rPr>
              <a:t>(SNR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еротонина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арцијални агонист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5HT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i="1" lang="sr-Latn-CS" sz="1800" spc="-1" strike="noStrike">
                <a:solidFill>
                  <a:srgbClr val="000000"/>
                </a:solidFill>
                <a:latin typeface="Calibri"/>
              </a:rPr>
              <a:t>(SPAR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Блокатори појединих рецептор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Норадренергички и специфични серотонергички антидепресиви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Latn-CS" sz="1800" spc="-1" strike="noStrike">
                <a:solidFill>
                  <a:srgbClr val="000000"/>
                </a:solidFill>
                <a:latin typeface="Calibri"/>
              </a:rPr>
              <a:t>NaSSA)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блокада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5-HT2A i 2C, 5-HT3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еротонергичких рецептора уз блокаду норадреналина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Latn-CS" sz="1800" spc="-1" strike="noStrike">
                <a:solidFill>
                  <a:srgbClr val="000000"/>
                </a:solidFill>
                <a:latin typeface="Calibri"/>
              </a:rPr>
              <a:t>alfa – 2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рецептора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Блокатори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5-HT2A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еротонергичких рецептора уз инхибицију поновног преузимања серотонина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Latn-CS" sz="1800" spc="-1" strike="noStrike">
                <a:solidFill>
                  <a:srgbClr val="000000"/>
                </a:solidFill>
                <a:latin typeface="Calibri"/>
              </a:rPr>
              <a:t>SARI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M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латонергички агони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457200" y="1600200"/>
          <a:ext cx="8229600" cy="2835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мбинације код биполарног афективног поремећаја (</a:t>
                      </a:r>
                      <a:r>
                        <a:rPr b="0" i="1" lang="sr-Latn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ipolar combos</a:t>
                      </a:r>
                      <a:r>
                        <a:rPr b="1" lang="sr-Latn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ва</a:t>
                      </a: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нија монотерапиј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лпроична киселина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тију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ва или друга линија терапиј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типични антипсихотиц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457200" y="1600200"/>
          <a:ext cx="8229600" cy="2743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мбинације код биполарног афективног поремећаја (</a:t>
                      </a:r>
                      <a:r>
                        <a:rPr b="0" i="1" lang="sr-Latn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ipolar combos</a:t>
                      </a:r>
                      <a:r>
                        <a:rPr b="1" lang="sr-Latn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ећа линија монотерапиј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рбамазепин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амотригин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абапентин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пирамат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457200" y="1600200"/>
          <a:ext cx="8229600" cy="2743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мбинације код биполарног афективног поремећаја (</a:t>
                      </a:r>
                      <a:r>
                        <a:rPr b="0" i="1" lang="sr-Latn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ipolar combos</a:t>
                      </a:r>
                      <a:r>
                        <a:rPr b="1" lang="sr-Latn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типична комбинац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лпроична киселина или Литијум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типични антипсихот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457200" y="1600200"/>
          <a:ext cx="8229600" cy="2743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мбинације код биполарног афективног поремећаја (</a:t>
                      </a:r>
                      <a:r>
                        <a:rPr b="0" i="1" lang="sr-Latn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ipolar combos</a:t>
                      </a:r>
                      <a:r>
                        <a:rPr b="1" lang="sr-Latn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нзодиазепинска “</a:t>
                      </a:r>
                      <a:r>
                        <a:rPr b="1" i="1" lang="sr-Latn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sault Weapon</a:t>
                      </a: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” </a:t>
                      </a: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бинац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лпроична киселина  ил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тију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нзодиазепин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457200" y="1600200"/>
          <a:ext cx="8229600" cy="2743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мбинације код биполарног афективног поремећаја (</a:t>
                      </a:r>
                      <a:r>
                        <a:rPr b="0" i="1" lang="sr-Latn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ipolar combos</a:t>
                      </a:r>
                      <a:r>
                        <a:rPr b="1" lang="sr-Latn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уролептична “</a:t>
                      </a:r>
                      <a:r>
                        <a:rPr b="1" i="1" lang="sr-Latn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clear Weapon</a:t>
                      </a: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” </a:t>
                      </a: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бинаци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лпроична киселина ил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тију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уролепти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13"/>
          <p:cNvSpPr/>
          <p:nvPr/>
        </p:nvSpPr>
        <p:spPr>
          <a:xfrm>
            <a:off x="4714920" y="333360"/>
            <a:ext cx="3722760" cy="2023920"/>
          </a:xfrm>
          <a:prstGeom prst="wedgeEllipseCallout">
            <a:avLst>
              <a:gd name="adj1" fmla="val -28893"/>
              <a:gd name="adj2" fmla="val 115314"/>
            </a:avLst>
          </a:prstGeom>
          <a:gradFill rotWithShape="0">
            <a:gsLst>
              <a:gs pos="0">
                <a:srgbClr val="004e9b"/>
              </a:gs>
              <a:gs pos="50000">
                <a:srgbClr val="0066cc"/>
              </a:gs>
              <a:gs pos="100000">
                <a:srgbClr val="004e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ene docet qui bene distinquit</a:t>
            </a: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Grave ipsius conscietiae pond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457200" y="1600200"/>
          <a:ext cx="8229600" cy="20113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мбинације код биполарног афективног поремећаја (</a:t>
                      </a:r>
                      <a:r>
                        <a:rPr b="0" i="1" lang="sr-Latn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ipolar combos</a:t>
                      </a:r>
                      <a:r>
                        <a:rPr b="1" lang="sr-Latn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бинације стабилизатора расположењ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или више стабилизатора расположењ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6" name=""/>
          <p:cNvGraphicFramePr/>
          <p:nvPr/>
        </p:nvGraphicFramePr>
        <p:xfrm>
          <a:off x="457200" y="1600200"/>
          <a:ext cx="8229600" cy="2743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191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мбинације код биполарног афективног поремећаја (</a:t>
                      </a:r>
                      <a:r>
                        <a:rPr b="0" i="1" lang="sr-Latn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ipolar combos</a:t>
                      </a:r>
                      <a:r>
                        <a:rPr b="1" lang="sr-Latn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)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мбинације са антидепресивим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билизатори расположења или атипични антипсихотиц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тидепресиви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ilustracija3"/>
          <p:cNvPicPr/>
          <p:nvPr/>
        </p:nvPicPr>
        <p:blipFill>
          <a:blip r:embed="rId1"/>
          <a:srcRect l="6228" t="0" r="0" b="0"/>
          <a:stretch/>
        </p:blipFill>
        <p:spPr>
          <a:xfrm>
            <a:off x="4786200" y="0"/>
            <a:ext cx="43578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ilustracija4"/>
          <p:cNvPicPr/>
          <p:nvPr/>
        </p:nvPicPr>
        <p:blipFill>
          <a:blip r:embed="rId2"/>
          <a:stretch/>
        </p:blipFill>
        <p:spPr>
          <a:xfrm>
            <a:off x="0" y="0"/>
            <a:ext cx="4643280" cy="6858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AutoShape 13"/>
          <p:cNvSpPr/>
          <p:nvPr/>
        </p:nvSpPr>
        <p:spPr>
          <a:xfrm>
            <a:off x="4714920" y="333360"/>
            <a:ext cx="3722760" cy="2023920"/>
          </a:xfrm>
          <a:prstGeom prst="wedgeEllipseCallout">
            <a:avLst>
              <a:gd name="adj1" fmla="val -28893"/>
              <a:gd name="adj2" fmla="val 115314"/>
            </a:avLst>
          </a:prstGeom>
          <a:gradFill rotWithShape="0">
            <a:gsLst>
              <a:gs pos="0">
                <a:srgbClr val="004e9b"/>
              </a:gs>
              <a:gs pos="50000">
                <a:srgbClr val="0066cc"/>
              </a:gs>
              <a:gs pos="100000">
                <a:srgbClr val="004e9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ff"/>
                </a:solidFill>
                <a:latin typeface="Arial"/>
              </a:rPr>
              <a:t>Добро учи онај који добро разликује</a:t>
            </a:r>
            <a:r>
              <a:rPr b="0" i="1" lang="sr-Latn-CS" sz="18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ff"/>
                </a:solidFill>
                <a:latin typeface="Arial"/>
              </a:rPr>
              <a:t>Тежак је терет сопствене савес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ilustracija11"/>
          <p:cNvPicPr/>
          <p:nvPr/>
        </p:nvPicPr>
        <p:blipFill>
          <a:blip r:embed="rId1"/>
          <a:srcRect l="10347" t="0" r="12013" b="0"/>
          <a:stretch/>
        </p:blipFill>
        <p:spPr>
          <a:xfrm>
            <a:off x="0" y="1643040"/>
            <a:ext cx="4500720" cy="52149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Типологија схизофрених поремећа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зитивни симпто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фективни симпто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Когнитивни симпто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гативни симпто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гресивни симпто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428760" y="642960"/>
          <a:ext cx="8229600" cy="4754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озитивни симптом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рзо контролисањ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типсихотик + бензодиазепин (халоперидол + лоразепам парентерално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линија терапиј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типични антипсихотиц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комплијантни пацијен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по препара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линија терапиј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асични антипсихотици; клозап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линија терапиј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ифармација; комбинације (</a:t>
                      </a:r>
                      <a:r>
                        <a:rPr b="1" i="1" lang="sr-Latn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bos</a:t>
                      </a: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428760" y="642960"/>
          <a:ext cx="8229600" cy="50292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фективни симптом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линија терапије биполарног афективног поремећај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билизатор расположења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тијум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типични антипсихотиц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ици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типични антипсихотиц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линија терапије схизофреније и других психоз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по препарат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линија терапиј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озапин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хибитори преузимања серотонина + атипични антипсихотиц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500040" y="1785960"/>
          <a:ext cx="8229600" cy="19209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гнитивни симптом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линија терапиј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типични антипсихотиц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линија терапиј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хибитори холинестеразе (</a:t>
                      </a:r>
                      <a:r>
                        <a:rPr b="1" i="1" lang="sr-Latn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zheimer</a:t>
                      </a:r>
                      <a:r>
                        <a:rPr b="1" lang="sr-Latn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428760" y="642960"/>
          <a:ext cx="8229600" cy="26510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гативни симптом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линија терапиј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типични антипсихотици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сперидон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ланзапин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линија терапиј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ветиапин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ипрасидон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00040" y="1428840"/>
          <a:ext cx="8229600" cy="38401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26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гресивни симптом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рзо контролисањ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типсихотик + бензодиазепин (халоперидол + лоразепам парентерално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линија терапиј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типични антипсихотиц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линија терапиј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асични антипсихотици; клозапин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нзодиазепин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37:56Z</dcterms:created>
  <dc:creator/>
  <dc:description/>
  <dc:language>en-US</dc:language>
  <cp:lastModifiedBy/>
  <dcterms:modified xsi:type="dcterms:W3CDTF">2017-08-19T06:36:09Z</dcterms:modified>
  <cp:revision>5</cp:revision>
  <dc:subject/>
  <dc:title>Комуникација са пацијентом и другим здравственим радницим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659561033</vt:lpwstr>
  </property>
</Properties>
</file>